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F22B-3CB9-43AF-B3CB-889817A0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476-59E8-43A1-9CCE-02337F72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669-4C46-4DF1-9DFF-119A1DB4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13A-E272-48FE-A0BE-EE3395F3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A24-55A5-4889-A20F-6518B37F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225-81DD-428B-8C24-662A2040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66E-8858-4FE6-9E92-A76868B7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808-6056-461B-84E3-B414CF66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185B-69A6-4377-BFB7-BE2D8E91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1ED-9FCA-4D8A-8F62-8D2DD2FB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E9B-F7BC-46D2-952D-E5D4A6B5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523C-ECCB-4FEB-8E33-378EC3E3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3692-0F32-46D7-85EE-4E9DE5BA3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tion, Rates, &amp; Patterns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vergent 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ed species become less al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daptive Rad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 of the same species adapt to a variety of environmental conditions &amp; radiate out into separate species through divergent evolution &amp; 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Deer &amp; Moose; Finches of Galapa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81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vergent Ev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related species become more similar - occurs when unrelated species adapt to similar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Sharks &amp; Dolph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s &amp; Butter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Cacti &amp; African Euphor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Staff:HolmgrS:Downloads:What_Do_You_Get_if_You_Cross_a_Mouse_With_a_Mango___Speciation_and_Varieties_of_Species.mov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15328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by which new species evolve from ancestral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quiremen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manent barrier to breed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members of the sam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sol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 - a physical barri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s a pop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river, mountain range, ocea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ve - occurs when memb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same species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e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ing fert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different mating seasons, differ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ering times, polyploi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radual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ution of all existing species occurred slowly &amp; steadily over millions of year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low &amp; steady change over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unctuated Equilibri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es stay the same unless there is pressure to change; when environmental changes exert pressure, change occurs rapid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95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cientists do not agree about the rate at which evolution occurs; fossil evidence supports both ideas but fossil records are incomplete and do not allow for the study of changes in soft tissues because only hard parts are pre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13:45:58Z</dcterms:created>
  <dc:creator>Clayton Johns</dc:creator>
  <dc:description/>
  <dc:language>en-US</dc:language>
  <cp:lastModifiedBy>Clayton Johns</cp:lastModifiedBy>
  <dcterms:modified xsi:type="dcterms:W3CDTF">2010-03-09T15:14:47Z</dcterms:modified>
  <cp:revision>2</cp:revision>
  <dc:subject/>
  <dc:title>Speciation, Rates, &amp; Patterns of Evolution</dc:title>
</cp:coreProperties>
</file>